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D9F-F4A1-4053-AD05-E78EC5B8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240-D0ED-490B-BA53-68DFAE5D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AE0-C47A-404E-AA85-EC9F4EB1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B4E-D325-43B5-A49F-886E6577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0A4-FCAA-4DB4-97C4-A79FAC75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EFC-3ECA-4A24-9CF1-BE4AB35B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30D-4257-418C-8A51-2847A3C0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4F8-F5B5-41C2-9AA4-25A3195F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706-8F7B-4F5B-89DB-44DEF4B6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30B-4A9A-41DE-9EB1-1114751E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1CD-C37C-426C-AF16-2D25A32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3DB-940F-42BC-A00E-07DB150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3CC-D392-4EBE-ADFA-D5A4D12DB7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708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11:58Z</dcterms:created>
  <dc:creator>X4195945</dc:creator>
  <dc:description/>
  <dc:language>en-US</dc:language>
  <cp:lastModifiedBy>X4195945</cp:lastModifiedBy>
  <dcterms:modified xsi:type="dcterms:W3CDTF">2010-12-29T08:12:33Z</dcterms:modified>
  <cp:revision>1</cp:revision>
  <dc:subject/>
  <dc:title>שקופית 1</dc:title>
</cp:coreProperties>
</file>