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40B-3E78-463F-9F99-74372EF2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639-ABB1-4257-A661-EFCF75E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403-7B79-45B1-8E78-D343AE37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F63-E646-46C6-AB10-3737C252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891-7930-49BB-B26D-A1EB777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1F3-6A57-423B-A59E-503A8680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F5D-320E-489C-BD74-6937D92C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68F-9EE9-4E1B-A38C-A525B19A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501-A509-48E9-A578-964A7958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275-B351-46FE-AAA4-EF403C5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E74-40BA-4437-8460-5F5D809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3E2-2694-453A-B513-4756517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A167-261B-47B1-ACB7-8642EBA938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664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3:15Z</dcterms:created>
  <dc:creator>X4195945</dc:creator>
  <dc:description/>
  <dc:language>en-US</dc:language>
  <cp:lastModifiedBy>X4195945</cp:lastModifiedBy>
  <dcterms:modified xsi:type="dcterms:W3CDTF">2010-12-29T08:13:31Z</dcterms:modified>
  <cp:revision>1</cp:revision>
  <dc:subject/>
  <dc:title>שקופית 1</dc:title>
</cp:coreProperties>
</file>